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6.png" ContentType="image/png"/>
  <Override PartName="/ppt/media/image13.png" ContentType="image/png"/>
  <Override PartName="/ppt/media/da-wa.wav" ContentType="audio/x-wav"/>
  <Override PartName="/ppt/media/image18.png" ContentType="image/png"/>
  <Override PartName="/ppt/media/image2.png" ContentType="image/png"/>
  <Override PartName="/ppt/media/image4.png" ContentType="image/png"/>
  <Override PartName="/ppt/media/phone.wav" ContentType="audio/x-wav"/>
  <Override PartName="/ppt/media/image5.gif" ContentType="image/gif"/>
  <Override PartName="/ppt/media/blewmind.wav" ContentType="audio/x-wav"/>
  <Override PartName="/ppt/media/image8.png" ContentType="image/png"/>
  <Override PartName="/ppt/media/brain.wav" ContentType="audio/x-wav"/>
  <Override PartName="/ppt/media/image10.png" ContentType="image/png"/>
  <Override PartName="/ppt/media/image3.png" ContentType="image/png"/>
  <Override PartName="/ppt/media/oops.wav" ContentType="audio/x-wav"/>
  <Override PartName="/ppt/media/image17.png" ContentType="image/png"/>
  <Override PartName="/ppt/media/drumroll.wav" ContentType="audio/x-wav"/>
  <Override PartName="/ppt/media/image15.png" ContentType="image/png"/>
  <Override PartName="/ppt/media/amazing.wav" ContentType="audio/x-wav"/>
  <Override PartName="/ppt/media/seethis.wav" ContentType="audio/x-wav"/>
  <Override PartName="/ppt/media/image9.gif" ContentType="image/gif"/>
  <Override PartName="/ppt/media/image1.png" ContentType="image/png"/>
  <Override PartName="/ppt/media/alwayssomething..wav" ContentType="audio/x-wav"/>
  <Override PartName="/ppt/media/image12.png" ContentType="image/png"/>
  <Override PartName="/ppt/media/image11.png" ContentType="image/png"/>
  <Override PartName="/ppt/media/bounce.wav" ContentType="audio/x-wav"/>
  <Override PartName="/ppt/media/coolesthing.wav" ContentType="audio/x-wav"/>
  <Override PartName="/ppt/media/howdoulike.wav" ContentType="audio/x-wav"/>
  <Override PartName="/ppt/media/image14.png" ContentType="image/png"/>
  <Override PartName="/ppt/media/image6.png" ContentType="image/png"/>
  <Override PartName="/ppt/media/letssee.wav" ContentType="audio/x-wav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  <p:sldId id="294" r:id="rId64"/>
    <p:sldId id="295" r:id="rId65"/>
    <p:sldId id="296" r:id="rId66"/>
    <p:sldId id="297" r:id="rId67"/>
    <p:sldId id="298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slide" Target="slides/slide39.xml"/><Relationship Id="rId65" Type="http://schemas.openxmlformats.org/officeDocument/2006/relationships/slide" Target="slides/slide40.xml"/><Relationship Id="rId66" Type="http://schemas.openxmlformats.org/officeDocument/2006/relationships/slide" Target="slides/slide41.xml"/><Relationship Id="rId67" Type="http://schemas.openxmlformats.org/officeDocument/2006/relationships/slide" Target="slides/slide42.xml"/><Relationship Id="rId68" Type="http://schemas.openxmlformats.org/officeDocument/2006/relationships/slide" Target="slides/slide43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ABE-ACA8-48CF-980C-D72B5D5E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C6F-D6A3-4261-894C-DCF33419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73063-6439-4EAE-8E58-FEF1D623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75A23-3B1F-4014-81AD-C667E880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4105A-6F3D-441B-BB21-0A52A823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CBA13-B4E2-4BEF-B733-4E67A00F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72CFF-F03A-4CBD-8154-B798E286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78C42-2923-4465-B276-1D820B60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574E9-0A05-4A82-9447-E1D209C1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5756F-EA43-4CBA-8805-0500A4C5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474AB-47EF-481C-80E5-442BB15D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81DF1-DDAE-4B87-B1A0-11E0BFE5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7389-2B8D-4260-98DF-185D4EAF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C7B8B-84AE-436D-818A-BB7AA5E6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50B04-0230-4B1D-B38B-70657683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AECD5-60B3-4385-B9EE-F29026AA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548D0-33F9-486F-8366-262BF3F8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AE7F6-DFCF-41AC-A7E8-4800A031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3C2A6-B47E-43CB-A96F-07A72C64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3E88F-EE8C-4C7E-B90E-541742DB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592B7-0FF9-4521-9AFB-4BAF4BB5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B64C8-B365-4CDE-B744-15BAB73E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D76AD-2C63-4060-A28A-6B1AADCB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7AC-FDDB-443B-B4BD-DF35C873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0FDF8-B471-4CD7-AD86-C6E025FB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8EFF5-8103-4D57-A20D-DB6156F4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33E64-8A56-4871-A613-07ECB7D0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5B490-FC3D-432F-B901-A1228370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B1333-3477-46A0-9625-D7EEE5FC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309FD-6EC7-4C99-BC2D-56F03CFD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B0D3D-659C-43A8-8B23-21CCB3CF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D7563-656E-4541-BA72-DC3B8106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E41B8-705C-4BDB-A81C-F8E76198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E9452-7320-4EE2-9852-A491E307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C4464-8856-4F93-A058-A876E414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A31EF-61BF-4F1C-B1B3-AD919D42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4991F-467D-48CA-9DFC-00A60392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D96C1-20D6-45E3-BEB5-B9983E56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DCEDA-637B-4A7D-93E7-A155366E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26C54-FD3F-4C47-9A9D-9C3CC39A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D2DF6-8716-4BA0-9841-47DB20F4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2BB07-A78E-4CC3-B2AE-6EE01C86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77913-80E5-4CF3-AAD5-2AE3A768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35875-7A04-4FA1-96E9-1898830D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52F4F-6318-43EA-A141-3BB0D8A7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E7F01-7F5D-4971-ACB9-DDC74469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84CF4-0661-4300-98A1-B938E1A1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DD14C-367A-47DA-80B2-986F973D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1B74B-1ABE-47A0-B284-ED06AC21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17135-2CC2-4448-A63A-B5607DF7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B04DA-CE18-4732-8CA1-28CDF1D0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48637-26EC-4388-9172-E75C57F7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44063-14D3-4A65-8BE7-913507D0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1A30E-A644-412B-9B72-56513CE7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BEEC9-0F99-446E-9E81-1F94F29D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BA186-F17C-4C58-8436-1BB70CD2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4A717-B33C-4498-976B-98BD2129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88F72-34C1-4EC2-A300-679DAEEE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8B111-4734-432F-98B4-6A8D813F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CFC2C-D40F-4CCD-B61B-1D9B524D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F5149-3BB6-40EE-AC99-DE4BAA19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CAF25-9505-4EC5-B19E-3182941C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ED0BA-0B8E-4F8F-A641-0799E343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72B19-A24D-465E-A0CB-8C1F2691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FC32F-3F79-42C5-B33A-5EB51C8C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3207A-69B0-4CE7-A127-679A50F6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A4ACB-2C17-459F-AE5D-370A418E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C8174-4358-4545-8AA1-20DB5CC3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E319A-2B1C-4214-8830-F402F175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2B8C3-8EE9-42F2-BD22-6C9DB330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4E4AB-4D3B-46CF-AA6D-A0998253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5E1E5-7D6A-440C-BED7-EA4C9739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8C1F2-3D13-43CF-B87A-057D20DD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62287-7646-4F1E-BEF8-D0B9807B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81057-3F95-47CA-B7E9-0FF22AC2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5D3CF-FE62-416B-B722-3AB63F9B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13870-956B-41A6-A443-91B700FD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AE42E-5B79-46F3-B4D8-B5E587B4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190A2-8AE4-418C-B32A-4A9A3051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995F2-C3D9-48AC-B1A8-46852EB2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63D1B-44EC-47C1-8DFF-0A4F92A5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ED66A-813C-4E33-8456-D003B0E2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58760-7965-4AB8-814D-E5F4483D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ACAF7-4927-4E17-BB97-3343156A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FE3B4-5310-4632-88E4-08469E75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BE587-DB09-4F90-AF0D-178C8C8E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06E0D-1325-4A77-925A-21FE3ECA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FE557-8DCB-470D-A933-7FB83EF3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6DE18-DD1E-45D9-BA0B-2B51D3C3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EFD9A-B6BB-4930-BA86-CBF8B8F4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D453A-BBF8-4965-9D2A-5C717F93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03D51-1013-41EE-8064-BCEAA2FF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DD8C4-C7BE-4392-8672-F094F585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1DC0B-B3FC-4FC9-94A3-2F746BD9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269E31-683D-421D-AF78-981F70E0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F27F1-3E61-43E9-9F56-69089056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C8AEF-7EC4-4A8E-B923-CB05C238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40F8D-5603-48AE-98E0-3BEC5EF0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18D8D-89C4-458A-8C5B-24311407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2E9E9-BE27-4C1D-900C-3C519570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D8E1C-FCE0-4FB6-A24D-3FE465F2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1919FC-3044-4B4E-BC83-DF17779E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82277-E055-4861-B47F-207FF5C0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73DFA-35B4-4924-AE15-9734668C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771-683A-40BB-837D-3A5827ED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FDFAF-B09B-422B-9FC3-3FFF97F1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725DC-7D3E-4773-B3EC-813F1F1F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719932-75A3-453A-B07C-28BE17CF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996658-4C3C-4653-B70E-A69363BD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0ADCA-2B53-4576-9141-81BADFDA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14B63E-1B71-4DEE-A7B0-193CD87B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D9AF4-D385-43D0-A3F9-64C235D4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AAC887-C18D-42DB-BECE-BE35C3E2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07ADF-5180-48E6-96EB-D6DF5699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C4F91-6589-474D-96ED-C068DF1A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637FE-FF2F-48E3-BB6C-589BCD17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2785A8-C6FC-46D8-AA67-DBB58B68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7498B-C8B5-4A92-A536-A7C5879C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19DE2C-6969-488E-8D0E-A379DEDE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D46899-C919-4EFB-8D62-8BA2E239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498F4B-996B-417A-85F0-3F760927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CBFA87-C3E1-4FE0-80C1-A7B4743A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A89CAD-9EA4-43D8-B45F-688654DE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4150F4-EB6F-4499-9B8F-2B356022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708417-DF9B-460A-A1C2-D97294FA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4A2870-BDC0-40BA-B48E-861CB519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A4D1BE-083A-4D4E-9F05-0B25B721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3CA39-3545-4568-A8EF-5D26D148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2525CE-720C-42B6-80EE-5E29CEEB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6C5CDB-2CE5-4ADD-9D6B-D63A5DD5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F44494-CA5F-489C-809B-EDC74F38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F0706-A48D-4E33-8F18-F3EFD279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047F10-C1F9-40E7-9300-680221C9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1EE134-D73D-4027-BC27-62E036E8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432EA2-DA38-4E34-8A53-F4C85BAF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0A54CA-30DB-49D1-95FB-4C2A5D98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1DEF7-3BE8-4826-B6EA-347FC8B2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F6AC5B-8B27-434C-8550-56294B80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C25E37-32BA-4D8E-AA27-2D2F3FD2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F95B6B-7925-44B1-8065-A3564235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11222-A62C-4A40-8FAA-989BE588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E68D10-F037-4645-BC3A-36FB8DF5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7CA4A6-9429-4768-BA64-EA2E7B28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AD7A45-A801-40D7-A0B3-D432D272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F3EBC8-C958-4DC2-8FCE-B5FAC3F5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C298FE-0B16-4C54-9B40-2A1DB19A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7C8084-C20D-40F5-A9F9-C361DCC7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13A35D-5009-4B43-BA6B-7160A40C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E880E8-EDD3-43A9-8717-C4766D6A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4DEC4F-7A0E-4A94-AE33-0BD37433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E6D4EE-8F55-4A8E-9201-EF56D8DE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28BBCC-DFCC-4C04-BA1C-0E270D6E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072EE5-8962-4608-B956-673919C8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973291-4A2F-45D1-A7FE-A6914639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F47A25-0CE4-4873-937B-C484A2BD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8398CA-6F4E-4D20-AF4A-B7535CE0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A1EE4D-415C-4D06-AED7-A2DEB274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DB70D4-51C3-4D84-B09F-A430285B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BF2B51-E578-40AE-8167-3DC1F631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343D7D-AFE3-488F-B1EB-66E8C73D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F0EA17-6EBA-4FBB-B983-9CE1BF0B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2E39BD-A245-4DFF-9E2C-5A74CE6E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7B5434-75E8-4EC4-9F52-70ED78E5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BAAE5E-D7D3-408D-A5ED-7D1BB368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7CE608-FEB6-4E83-975A-063B5328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1A1256-CC1D-4396-BB7F-8F5A752E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FBE6B-EAB2-4F53-A00C-92376C13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CA9C80-EFB8-4DEB-BA2F-63DCEA9D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1D1A3B-900B-4A55-BC59-C9E22B89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A12BB-4395-4183-9B1A-31A173D6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D0DC6C-5597-44E8-88E6-21655C66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8DB6DA-C0B8-4735-BABB-565770B5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A0059A-3C3D-4811-B485-274E5705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E0D0B9-26E0-42C4-AE2F-132FC7F8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5785CC-137A-4F0C-A3A4-C59AE768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55C272-A2A2-404F-90D4-18ACDD38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A9091D-0BFB-45B5-ABDB-D20423A8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761DED-E638-45C8-8647-75290E0E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46DA88-31A8-4910-94A6-E661B040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31250B-0CB0-44A1-82D3-EBC0DDC5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783199-F95C-42B8-B8DC-B7721DCF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AD89FF-8A93-4B13-92EF-99384D83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1C50FA-D1A8-42AA-BC65-061B4A4B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38D68A-7C50-46BA-96BF-4C9C6B28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B47A33-84A8-46AB-9C59-AE3B8993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D234AA-B062-4554-B5DF-5951743E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6BE9D4-216F-48F1-8A88-48FD7C90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CAFB39-A5CE-4AD1-A57D-C03F8DD7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1D9D26-B44C-4A56-89AF-B0BF9D3D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B3A632-43B1-4728-9823-DEB1C48F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0B0698-13A4-4F6A-A22B-0611E7BB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A27802-01BB-4AA6-87D6-CC717845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7A62D8-BBD3-4E34-A1F5-F0E12D56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A80098-8F4C-48E6-9414-6EA400AB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771-71F5-4CCA-B66C-95465AB8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B9F0-1F43-4D68-B41D-E4B2BCF4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3555-759E-4664-A960-CA0919A0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C166-D258-428A-9A01-1B4A7297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8FF-A0F2-4BCC-93D6-5790ECC7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1D44-A76D-44B9-849F-C0D1FDB0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ABF1-39CF-49E9-B722-2706C6EA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43C0-5947-4C7A-8BD1-89AA6152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5963-CA18-4E80-B629-DDF6AAA3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C203-AB38-4DAB-B653-CC8D6195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5399-E5C1-4C53-A69A-BEC7DFDE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9A1F-E03B-48C6-8047-F18446C3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8B3C-6B65-4275-80B1-F2DDE080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D0F9-7A88-4139-9A57-5F2F1CA8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8B7B0-7A68-47A0-9BF8-DBDCCCAE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590-D3AD-445A-BABA-082323BE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7E5BA-014F-4300-B9ED-73BF1758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C06A-CC58-42B9-A3E2-F9AB0181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81B2-EE78-4398-8D40-9150E93C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B9373-8B59-4E25-86BB-ED9E34BC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B8CA-4FFB-4753-BC49-0CEC4407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47E2D-CC12-41F5-A5BD-35FE4ED9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6E586-7FAA-487C-A4DE-CD73C53B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E7F7F-0D95-4776-A7D3-5E12AF1C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A4FCA-3ABD-43E8-883F-D15181B9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5C630-0F6C-4B69-B379-21939278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CAD-4B68-48BF-8F9E-6F3C9CC3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02DB7-41D0-4F4B-AFD1-8A01E5D0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C73C-7FB0-4F8A-A681-4418D2EC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6A4DA-5050-40A2-8903-CC862FDC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AAEF8-F3E6-4FC9-A24B-38BA4B5E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2738B-5009-4202-B545-647E507F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0D0D1-3E2A-4AC7-9716-C7DBEA92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6787E-88F3-45B5-9CC2-F33EA497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BBB79-8AC5-4CE3-A240-27B705A3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05440-D114-4B9F-B906-EEE06C55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5719C-2300-43E4-8878-3E694346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2C3-1ED0-421B-9901-1D9A3962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65115-499B-4160-B506-49D13813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A3C8B-B6E8-4631-A65E-632559EF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30668-2FD8-46B4-B797-C2D5D1D7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0398F-2DC2-48EA-950D-3647B30F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85A30-4195-4CC1-A4E3-AFD6DF3D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98724-440A-492C-8526-D7A0DD89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08A78-0965-4F7B-A406-0C43EFB0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82707-5D6E-454A-BE30-0213B03F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0EDB4-521F-44F0-8FB8-DC9E0E02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E58C2-0F49-4CAF-A4A0-AB490096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B2C-41BE-4503-831D-15ECD034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B1034-A67C-4151-9727-15B3CD55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84E7B-5BD4-4246-A574-4BEB756D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2A3CA-1253-45F9-B483-71AC2BDE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951A3-9798-44D6-BD06-A16D3C2C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3A6C9-9EE0-439C-8D0F-C30AE99D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32BD4-03AC-4309-9575-918EA443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1C292-DDF6-4AA8-90C8-DE1E6DC8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2614C-0FD0-43BE-AF74-6DE504B7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9750E-FEA7-47B3-9470-B627A366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95CED-BCC8-4C06-AF65-8459D551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944-DCC4-42B4-9FC8-D69E9C6B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93A50-DDD9-422F-8D77-23B74789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6C2B6-6311-431D-BE78-E3EE4285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ABBC9-99ED-4296-BD64-F3D6EECD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5A080-743C-43C9-80A6-60D3F4B3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90D78-1CD8-4B00-BBE3-34B663B9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88205-ABFF-4F72-9904-B6553225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11B1B-3744-4B9B-A35C-703B87FA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4B925-EEA3-4280-9FF7-9E5B0CA6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639AC-7B63-4CC4-A551-9589A548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B24BD-83BC-4109-B488-CA59D6A2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0D3E-60E7-4FE1-B92F-2F75670BD3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6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F950-FC46-408F-89D0-25522CBF2D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1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BBC2-EDF2-4E0D-9B89-17C6DDBFDF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6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F5F1-94D0-4BD1-AC2D-44486EA85E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1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8521-2B43-4DEA-B038-C4C2DF9E38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7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A681-36B7-462E-A631-69F013F076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72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2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2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3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3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4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5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E783-5BF2-4BA1-9610-656B65FDD9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79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0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0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1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1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2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2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564D-EAE0-418E-B228-95CDC9145D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7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7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8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8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9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0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C943-499B-4A42-9C5B-2B214BAB45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4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5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5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6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7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7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8268-C373-4DD7-BD78-A97DCB19A0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2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2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2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3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3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4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5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CFBF-50D4-4902-B781-63809D2237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9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0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0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1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1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2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2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PlaceHolder 1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96EC-D4E4-49F8-9A43-8601836DD2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7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7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7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8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8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9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0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PlaceHolder 1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6163-34D9-4433-B0AC-DD32D0BE4A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4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5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5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6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6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7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7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1" name="PlaceHolder 1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E357-3F35-496A-AD39-26956BF024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2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2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2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3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3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4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5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6" name="PlaceHolder 1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E147-76AA-40CA-BC0E-F1CE1CE6DD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9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0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0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1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1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2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2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PlaceHolder 1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C6D3-A6E0-4906-BE08-9CC175DE04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4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3"/>
          <p:cNvSpPr/>
          <p:nvPr/>
        </p:nvSpPr>
        <p:spPr>
          <a:xfrm>
            <a:off x="685800" y="2057400"/>
            <a:ext cx="7391520" cy="33526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09480" y="914400"/>
            <a:ext cx="746784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0" y="1371600"/>
            <a:ext cx="8991720" cy="1828800"/>
          </a:xfrm>
          <a:custGeom>
            <a:avLst/>
            <a:gdLst>
              <a:gd name="textAreaLeft" fmla="*/ 0 w 8991720"/>
              <a:gd name="textAreaRight" fmla="*/ 4496760 w 8991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4917" h="1000">
                <a:moveTo>
                  <a:pt x="0" y="0"/>
                </a:moveTo>
                <a:lnTo>
                  <a:pt x="4416" y="0"/>
                </a:lnTo>
                <a:cubicBezTo>
                  <a:pt x="4693" y="0"/>
                  <a:pt x="4917" y="223"/>
                  <a:pt x="4917" y="500"/>
                </a:cubicBezTo>
                <a:cubicBezTo>
                  <a:pt x="4917" y="776"/>
                  <a:pt x="4693" y="999"/>
                  <a:pt x="4417" y="1000"/>
                </a:cubicBezTo>
                <a:lnTo>
                  <a:pt x="0" y="10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cccc00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3048120"/>
            <a:ext cx="83059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2518-2707-41F5-8454-1F1F9BD2BA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1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898E-BB62-4EEA-8E9B-B3BFD4C969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6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4BA8-0E9C-40F2-B029-5256BD8C29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1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9868-1CA9-49CC-86A5-FE0D19149F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64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4AF6-94EB-4FF6-A884-A3CE12C1FF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1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4632-3AFC-462A-96F8-3FA8B92E22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oolesthin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owdoulik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5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1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da-w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0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seethis.wav"/><Relationship Id="rId4" Type="http://schemas.openxmlformats.org/officeDocument/2006/relationships/audio" Target="../media/phon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3.xml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36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bounce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mazin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oops.wav"/><Relationship Id="rId2" Type="http://schemas.openxmlformats.org/officeDocument/2006/relationships/audio" Target="../media/brain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lewmind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lwayssomething.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etsse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66"/>
                </a:solidFill>
                <a:latin typeface="Arial"/>
              </a:rPr>
              <a:t>Subject-Verb Agreement</a:t>
            </a:r>
            <a:endParaRPr b="0" lang="en-US" sz="6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Project LA Activ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72" name="Picture 7" descr="homework5"/>
          <p:cNvPicPr/>
          <p:nvPr/>
        </p:nvPicPr>
        <p:blipFill>
          <a:blip r:embed="rId1"/>
          <a:stretch/>
        </p:blipFill>
        <p:spPr>
          <a:xfrm>
            <a:off x="5580000" y="3200400"/>
            <a:ext cx="2097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word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re never subject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8" name="Text Box 4"/>
          <p:cNvSpPr/>
          <p:nvPr/>
        </p:nvSpPr>
        <p:spPr>
          <a:xfrm>
            <a:off x="457200" y="281952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p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ou gave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y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nsw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Oval 5"/>
          <p:cNvSpPr/>
          <p:nvPr/>
        </p:nvSpPr>
        <p:spPr>
          <a:xfrm>
            <a:off x="5029200" y="4038480"/>
            <a:ext cx="312408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bje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1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olesth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s in the present tense for third-person, singular subjects (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anything those words can stand for) ha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endings. Other verbs do not ad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ending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2" name="Text Box 4"/>
          <p:cNvSpPr/>
          <p:nvPr/>
        </p:nvSpPr>
        <p:spPr>
          <a:xfrm>
            <a:off x="685800" y="3809880"/>
            <a:ext cx="8001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sk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 help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he ask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 help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y as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 help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Oval 5"/>
          <p:cNvSpPr/>
          <p:nvPr/>
        </p:nvSpPr>
        <p:spPr>
          <a:xfrm>
            <a:off x="5029200" y="4038480"/>
            <a:ext cx="312408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cky subjec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owdoul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Let’s Try These!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ions:  If the subject and verb are in agreement click "correct." If they are not, click the word that is the correct answer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Ready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16" name="Picture 4" descr="studentprepared"/>
          <p:cNvPicPr/>
          <p:nvPr/>
        </p:nvPicPr>
        <p:blipFill>
          <a:blip r:embed="rId1"/>
          <a:stretch/>
        </p:blipFill>
        <p:spPr>
          <a:xfrm>
            <a:off x="6019920" y="43434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  <p:sndAc>
      <p:stSnd>
        <p:snd r:embed="rId2" name="drumroll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Bill am going to the store. 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i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a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e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o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19" name="Picture 4" descr="store"/>
          <p:cNvPicPr/>
          <p:nvPr/>
        </p:nvPicPr>
        <p:blipFill>
          <a:blip r:embed="rId3"/>
          <a:stretch/>
        </p:blipFill>
        <p:spPr>
          <a:xfrm>
            <a:off x="4343400" y="2286000"/>
            <a:ext cx="3452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1" name="Picture 7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522" name="AutoShape 9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AutoShape 10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5" name="Picture 6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526" name="AutoShape 7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AutoShape 9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Clic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mov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forwar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339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The teachers are going to the movie. 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o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a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30" name="Picture 4" descr="movie"/>
          <p:cNvPicPr/>
          <p:nvPr/>
        </p:nvPicPr>
        <p:blipFill>
          <a:blip r:embed="rId2"/>
          <a:stretch/>
        </p:blipFill>
        <p:spPr>
          <a:xfrm>
            <a:off x="3124080" y="259092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32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533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36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537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Clic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ve </a:t>
            </a: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forwar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This are going to be the easiest quiz of all time.</a:t>
            </a: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i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a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e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41" name="Picture 4" descr="quietexam"/>
          <p:cNvPicPr/>
          <p:nvPr/>
        </p:nvPicPr>
        <p:blipFill>
          <a:blip r:embed="rId3"/>
          <a:stretch/>
        </p:blipFill>
        <p:spPr>
          <a:xfrm>
            <a:off x="3657600" y="1523880"/>
            <a:ext cx="433224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"/>
              </a:rPr>
              <a:t>Basic Rule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ingular subjects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 need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ingular verbs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lural subjects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 need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lural verbs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75" name="Picture 4" descr="iknewthat"/>
          <p:cNvPicPr/>
          <p:nvPr/>
        </p:nvPicPr>
        <p:blipFill>
          <a:blip r:embed="rId1"/>
          <a:stretch/>
        </p:blipFill>
        <p:spPr>
          <a:xfrm>
            <a:off x="3886200" y="4724280"/>
            <a:ext cx="1981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-w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43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544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47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548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mov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forwar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Everyone at the movie is taking a dollar.</a:t>
            </a: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e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he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52" name="Picture 4" descr="dollar"/>
          <p:cNvPicPr/>
          <p:nvPr/>
        </p:nvPicPr>
        <p:blipFill>
          <a:blip r:embed="rId2"/>
          <a:stretch/>
        </p:blipFill>
        <p:spPr>
          <a:xfrm>
            <a:off x="4191120" y="2666880"/>
            <a:ext cx="3838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54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555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try</a:t>
            </a: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58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559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mov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forwar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This is a fun book to read. 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a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e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o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63" name="Picture 4" descr="excitedbook"/>
          <p:cNvPicPr/>
          <p:nvPr/>
        </p:nvPicPr>
        <p:blipFill>
          <a:blip r:embed="rId2"/>
          <a:stretch/>
        </p:blipFill>
        <p:spPr>
          <a:xfrm>
            <a:off x="4114800" y="16765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65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566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69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570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ve </a:t>
            </a: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forwar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One time I were at the mountains. 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wa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o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74" name="Picture 4" descr="mts"/>
          <p:cNvPicPr/>
          <p:nvPr/>
        </p:nvPicPr>
        <p:blipFill>
          <a:blip r:embed="rId3"/>
          <a:stretch/>
        </p:blipFill>
        <p:spPr>
          <a:xfrm>
            <a:off x="4038480" y="2666880"/>
            <a:ext cx="38912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76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577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</a:t>
            </a: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HERE</a:t>
            </a: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nouns such a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bod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eem plural, but they are alway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ngul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— so they need a singular verb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8" name="Text Box 4"/>
          <p:cNvSpPr/>
          <p:nvPr/>
        </p:nvSpPr>
        <p:spPr>
          <a:xfrm>
            <a:off x="990720" y="34290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Everyo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o worked on the   science project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winner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5"/>
          <p:cNvSpPr/>
          <p:nvPr/>
        </p:nvSpPr>
        <p:spPr>
          <a:xfrm>
            <a:off x="1143000" y="49528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meo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answer the phon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0" name="Picture 6" descr="gardeningseeds"/>
          <p:cNvPicPr/>
          <p:nvPr/>
        </p:nvPicPr>
        <p:blipFill>
          <a:blip r:embed="rId1"/>
          <a:stretch/>
        </p:blipFill>
        <p:spPr>
          <a:xfrm>
            <a:off x="6858000" y="3809880"/>
            <a:ext cx="1971720" cy="155268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7" descr="payphone"/>
          <p:cNvPicPr/>
          <p:nvPr/>
        </p:nvPicPr>
        <p:blipFill>
          <a:blip r:embed="rId2"/>
          <a:stretch/>
        </p:blipFill>
        <p:spPr>
          <a:xfrm>
            <a:off x="8001000" y="5315040"/>
            <a:ext cx="669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eethi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80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581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ve forwar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Everyone are going to the circus.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we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wa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4" action="ppaction://hlinksldjump"/>
              </a:rPr>
              <a:t>i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o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85" name="Picture 4" descr="circus"/>
          <p:cNvPicPr/>
          <p:nvPr/>
        </p:nvPicPr>
        <p:blipFill>
          <a:blip r:embed="rId5"/>
          <a:stretch/>
        </p:blipFill>
        <p:spPr>
          <a:xfrm>
            <a:off x="2895480" y="2133720"/>
            <a:ext cx="571500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87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588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Click</a:t>
            </a: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91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592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ve </a:t>
            </a: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forwar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Each of the students are worried about the test.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ha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i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o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96" name="Picture 4" descr="pupils"/>
          <p:cNvPicPr/>
          <p:nvPr/>
        </p:nvPicPr>
        <p:blipFill>
          <a:blip r:embed="rId4"/>
          <a:stretch/>
        </p:blipFill>
        <p:spPr>
          <a:xfrm>
            <a:off x="4724280" y="1828800"/>
            <a:ext cx="2648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98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599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02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603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ve forwar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None of those girls go to church.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rrect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o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r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er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o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07" name="Picture 4" descr="church1"/>
          <p:cNvPicPr/>
          <p:nvPr/>
        </p:nvPicPr>
        <p:blipFill>
          <a:blip r:embed="rId1"/>
          <a:stretch/>
        </p:blipFill>
        <p:spPr>
          <a:xfrm>
            <a:off x="4495680" y="1447920"/>
            <a:ext cx="27622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09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610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13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614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ve forwar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hra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t come between the subject pronoun and its verb —may contain plural words and confus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4" name="Text Box 4"/>
          <p:cNvSpPr/>
          <p:nvPr/>
        </p:nvSpPr>
        <p:spPr>
          <a:xfrm>
            <a:off x="1066680" y="342900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f the basketball play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excited about tonight’s gam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5" name="Picture 5" descr="basketballanimate1"/>
          <p:cNvPicPr/>
          <p:nvPr/>
        </p:nvPicPr>
        <p:blipFill>
          <a:blip r:embed="rId1"/>
          <a:stretch/>
        </p:blipFill>
        <p:spPr>
          <a:xfrm>
            <a:off x="6781680" y="4267080"/>
            <a:ext cx="185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102,102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102,102)"/>
                                      </p:to>
                                    </p:set>
                                    <p:set>
                                      <p:cBhvr>
                                        <p:cTn id="41" dur="500" autoRev="1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un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The last book we read, as well as the five in the library, was fiction.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e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o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18" name="Picture 4" descr="books"/>
          <p:cNvPicPr/>
          <p:nvPr/>
        </p:nvPicPr>
        <p:blipFill>
          <a:blip r:embed="rId1"/>
          <a:stretch/>
        </p:blipFill>
        <p:spPr>
          <a:xfrm>
            <a:off x="4724280" y="2438280"/>
            <a:ext cx="28130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20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621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24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625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ve forwar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ry these online verb games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828800" y="152352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ats Ga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ubject-Verb Quiz 1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ubject-Verb Quiz 2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ubject-Verb Quiz 3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ubject-Verb Quiz 4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ubject-Verb Agreeme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Quiz Show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9" name="AutoShape 4"/>
          <p:cNvSpPr/>
          <p:nvPr/>
        </p:nvSpPr>
        <p:spPr>
          <a:xfrm>
            <a:off x="1143000" y="1600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AutoShape 5"/>
          <p:cNvSpPr/>
          <p:nvPr/>
        </p:nvSpPr>
        <p:spPr>
          <a:xfrm>
            <a:off x="1143000" y="2133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AutoShape 6"/>
          <p:cNvSpPr/>
          <p:nvPr/>
        </p:nvSpPr>
        <p:spPr>
          <a:xfrm>
            <a:off x="1143000" y="4495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AutoShape 7"/>
          <p:cNvSpPr/>
          <p:nvPr/>
        </p:nvSpPr>
        <p:spPr>
          <a:xfrm>
            <a:off x="1143000" y="5105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AutoShape 8"/>
          <p:cNvSpPr/>
          <p:nvPr/>
        </p:nvSpPr>
        <p:spPr>
          <a:xfrm>
            <a:off x="1143000" y="2666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AutoShape 9"/>
          <p:cNvSpPr/>
          <p:nvPr/>
        </p:nvSpPr>
        <p:spPr>
          <a:xfrm>
            <a:off x="1143000" y="3276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AutoShape 10"/>
          <p:cNvSpPr/>
          <p:nvPr/>
        </p:nvSpPr>
        <p:spPr>
          <a:xfrm>
            <a:off x="1143000" y="3886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s that accompany pronouns such a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ll be determined by whether the pronoun is referring to something that is COUNTABLE or no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8" name="Text Box 4"/>
          <p:cNvSpPr/>
          <p:nvPr/>
        </p:nvSpPr>
        <p:spPr>
          <a:xfrm>
            <a:off x="1066680" y="39625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e workers on the building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left for the d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Oval 5"/>
          <p:cNvSpPr/>
          <p:nvPr/>
        </p:nvSpPr>
        <p:spPr>
          <a:xfrm>
            <a:off x="5715000" y="5334120"/>
            <a:ext cx="274320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ould cou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maz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s that accompany pronouns such a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ll be determined by whether the pronoun is referring to something that is COUNTABLE or no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2" name="Text Box 4"/>
          <p:cNvSpPr/>
          <p:nvPr/>
        </p:nvSpPr>
        <p:spPr>
          <a:xfrm>
            <a:off x="1066680" y="39625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e salt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pilled on the floor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Oval 5"/>
          <p:cNvSpPr/>
          <p:nvPr/>
        </p:nvSpPr>
        <p:spPr>
          <a:xfrm>
            <a:off x="5105520" y="5181480"/>
            <a:ext cx="312408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t is consider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lump i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oo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69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70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usually regarded as singular, but it can be used as a plural pronoun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6" name="Text Box 4"/>
          <p:cNvSpPr/>
          <p:nvPr/>
        </p:nvSpPr>
        <p:spPr>
          <a:xfrm>
            <a:off x="685800" y="2819520"/>
            <a:ext cx="8001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n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the boy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elped at the gam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boy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elped at the ga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Oval 5"/>
          <p:cNvSpPr/>
          <p:nvPr/>
        </p:nvSpPr>
        <p:spPr>
          <a:xfrm>
            <a:off x="5715000" y="3429000"/>
            <a:ext cx="312408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ther is correc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lewm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rases such a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ogethe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long wi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s well 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em to combine subjects, but they do not 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0" name="Text Box 4"/>
          <p:cNvSpPr/>
          <p:nvPr/>
        </p:nvSpPr>
        <p:spPr>
          <a:xfrm>
            <a:off x="457200" y="2819520"/>
            <a:ext cx="8001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of th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ti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our room, as well as the hall,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oaked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j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oble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e had, together with that of our teacher,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ardines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Oval 5"/>
          <p:cNvSpPr/>
          <p:nvPr/>
        </p:nvSpPr>
        <p:spPr>
          <a:xfrm>
            <a:off x="5791320" y="5181480"/>
            <a:ext cx="312408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be fool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extra phrase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lwayssomething.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it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ppear as a subject alone (without the word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, they are singular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4" name="Text Box 4"/>
          <p:cNvSpPr/>
          <p:nvPr/>
        </p:nvSpPr>
        <p:spPr>
          <a:xfrm>
            <a:off x="457200" y="2819520"/>
            <a:ext cx="8001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Eith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ose answer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ee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be right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You can have the bed by the window or the one by the door.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ith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kay with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Oval 5"/>
          <p:cNvSpPr/>
          <p:nvPr/>
        </p:nvSpPr>
        <p:spPr>
          <a:xfrm>
            <a:off x="5562720" y="5334120"/>
            <a:ext cx="312408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ms like plu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etss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19:53:12Z</dcterms:created>
  <dc:creator>Jefferson County Schools</dc:creator>
  <dc:description/>
  <dc:language>en-US</dc:language>
  <cp:lastModifiedBy>Nadia Williams</cp:lastModifiedBy>
  <dcterms:modified xsi:type="dcterms:W3CDTF">2014-03-12T16:09:24Z</dcterms:modified>
  <cp:revision>24</cp:revision>
  <dc:subject/>
  <dc:title>Verb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Timer">
    <vt:bool>1</vt:bool>
  </property>
</Properties>
</file>